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0B1-F6B1-437F-855F-8BB748D9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76B-B10F-46EA-973B-C651ECE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A2E-70DE-4861-92FB-BAD2133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55B-C234-49AF-89C7-07EF09A1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423-1DE4-4A3C-B70B-2BF268C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49B-13CC-4FDC-BC4A-E29AECE0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4DD-7D97-43D1-8391-332A805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7D6-D224-4CF6-9F9D-553DEE3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D82-C42C-4B91-9FF2-54337B5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300-A834-4475-8FF7-54C0819A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89E-C50C-40EF-9B82-86239EF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A87-095A-4BAD-AF5C-92B82A8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5F3-5E5F-4316-890F-C0C5B5994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8.xm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slide11.xml"/><Relationship Id="rId18" Type="http://schemas.openxmlformats.org/officeDocument/2006/relationships/slide" Target=""/><Relationship Id="rId19" Type="http://schemas.openxmlformats.org/officeDocument/2006/relationships/slide" Target="slide12.xml"/><Relationship Id="rId20" Type="http://schemas.openxmlformats.org/officeDocument/2006/relationships/slide" Target=""/><Relationship Id="rId21" Type="http://schemas.openxmlformats.org/officeDocument/2006/relationships/slide" Target="slide13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"/><Relationship Id="rId25" Type="http://schemas.openxmlformats.org/officeDocument/2006/relationships/slide" Target="slide17.xml"/><Relationship Id="rId26" Type="http://schemas.openxmlformats.org/officeDocument/2006/relationships/slide" Target=""/><Relationship Id="rId27" Type="http://schemas.openxmlformats.org/officeDocument/2006/relationships/slide" Target="slide7.xml"/><Relationship Id="rId28" Type="http://schemas.openxmlformats.org/officeDocument/2006/relationships/slide" Target=""/><Relationship Id="rId29" Type="http://schemas.openxmlformats.org/officeDocument/2006/relationships/slide" Target="slide6.xml"/><Relationship Id="rId30" Type="http://schemas.openxmlformats.org/officeDocument/2006/relationships/slide" Target=""/><Relationship Id="rId31" Type="http://schemas.openxmlformats.org/officeDocument/2006/relationships/slide" Target="slide19.xml"/><Relationship Id="rId32" Type="http://schemas.openxmlformats.org/officeDocument/2006/relationships/slide" Target=""/><Relationship Id="rId33" Type="http://schemas.openxmlformats.org/officeDocument/2006/relationships/slide" Target="slide20.xml"/><Relationship Id="rId34" Type="http://schemas.openxmlformats.org/officeDocument/2006/relationships/slide" Target=""/><Relationship Id="rId35" Type="http://schemas.openxmlformats.org/officeDocument/2006/relationships/slide" Target="slide21.xml"/><Relationship Id="rId36" Type="http://schemas.openxmlformats.org/officeDocument/2006/relationships/slide" Target=""/><Relationship Id="rId37" Type="http://schemas.openxmlformats.org/officeDocument/2006/relationships/slide" Target="slide22.xml"/><Relationship Id="rId38" Type="http://schemas.openxmlformats.org/officeDocument/2006/relationships/slide" Target="slide3.xml"/><Relationship Id="rId39" Type="http://schemas.openxmlformats.org/officeDocument/2006/relationships/slide" Target=""/><Relationship Id="rId40" Type="http://schemas.openxmlformats.org/officeDocument/2006/relationships/slide" Target="slide4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01880" y="1901880"/>
            <a:ext cx="5340240" cy="159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eopardy-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438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Mrs. Gol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eopardy - Full Version 1985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9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95"/>
              <a:gd name="adj2" fmla="val 23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reaso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ought that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uld come to their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ring the Civil W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elief that Britain relied on their co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796"/>
              <a:gd name="adj2" fmla="val 237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the first assembl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ed representatives of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in Nor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rginia House of Burg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990720"/>
            <a:ext cx="7162920" cy="4038480"/>
          </a:xfrm>
          <a:prstGeom prst="wedgeRectCallout">
            <a:avLst>
              <a:gd name="adj1" fmla="val -49995"/>
              <a:gd name="adj2" fmla="val 244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e biggest 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rsuit in New F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ur trap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995"/>
              <a:gd name="adj2" fmla="val 24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the most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 of Shays’ Rebell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ealization of the need for a stronger central government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189"/>
              <a:gd name="adj2" fmla="val 240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caused southern troo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fire on Ft. Sumte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incoln sending supplies to the f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268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ne differenc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n American slav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ntured serva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dentured servants eventually got freedom, had more rights, slaves were more manage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268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rimary rea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the British pass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mp Ac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o raise money for military def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9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omas Jeffers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 to deal with British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nch violations of Ameri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utral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mbargo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95"/>
              <a:gd name="adj2" fmla="val 282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gally abolished slaver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ited Sta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at least 2 motives for Eng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in the new worl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unemployment, religious freedom, adventure, resour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>
            <a:hlinkClick r:id="rId1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905120" cy="3682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36360"/>
            <a:ext cx="18288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5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15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8">
            <a:hlinkClick r:id="rId16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0">
            <a:hlinkClick r:id="rId18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1">
            <a:hlinkClick r:id="rId20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2">
            <a:hlinkClick r:id="rId22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3">
            <a:hlinkClick r:id="rId2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5">
            <a:hlinkClick r:id="rId26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6">
            <a:hlinkClick r:id="rId28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7">
            <a:hlinkClick r:id="rId30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8">
            <a:hlinkClick r:id="rId32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9">
            <a:hlinkClick r:id="rId3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3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6094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64832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9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6-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rId39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1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scribe Triangular tra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who &amp; what goods involved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aw materials from Americas to Europe, rum &amp; manufactured goods to Africa, slaves to America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 two major aspec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Hamilton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ncial pla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aking on state debts, large national debt, national bank, protective tari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Republican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Reconstruc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rsh for south, conquered territory, at mercy of congr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543800" cy="4038480"/>
          </a:xfrm>
          <a:prstGeom prst="wedgeRectCallout">
            <a:avLst>
              <a:gd name="adj1" fmla="val -18671"/>
              <a:gd name="adj2" fmla="val 49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who came to the “n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ld” to explore, settle, and expl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ative Americ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conquista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95"/>
              <a:gd name="adj2" fmla="val 20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a wave of incr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gious fervor in the 1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ntur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at Awak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hibited slavery nort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36’30 paralle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ssouri Com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796"/>
              <a:gd name="adj2" fmla="val 2059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rohibited slavery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s gained from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xican Cess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ilmot Provi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3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a joint-stock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tered by England to fin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establish new colonies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worl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rginia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54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ne British advantag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volutionary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ell-trained generals, naval power, national wealth, established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19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e caus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llification crisi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ari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2:42:49Z</dcterms:created>
  <dc:creator>Jerry Myers</dc:creator>
  <dc:description>Created by Jerry Myers is 1998 for a class.</dc:description>
  <dc:language>en-US</dc:language>
  <cp:lastModifiedBy>emily.johnson</cp:lastModifiedBy>
  <cp:lastPrinted>2001-01-31T16:21:13Z</cp:lastPrinted>
  <dcterms:modified xsi:type="dcterms:W3CDTF">2012-12-17T12:47:07Z</dcterms:modified>
  <cp:revision>10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